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0FC3-B3A0-413C-AD6A-1841814308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EA2-AAE4-4E21-B322-1A914C80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AA3-2F7F-4886-BEB6-6E03E15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7EA-5CC7-4164-B13C-98108ED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316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9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316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9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551-60D3-4D94-A336-3B59ADA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5FB-C8CE-4A66-9601-79A57440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111B-F94A-4D9F-AE43-3BC577F5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496-144E-4328-BD7F-91C1C4A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CAC1-A9D0-458C-AA82-AA9CE2F1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449-D340-4DAB-B44F-DB815BD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652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6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94D5-D646-4E34-A714-15FE149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3753-1629-4A97-9596-F63D8AC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85A-6F9D-442A-8513-E28DC7B4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C4B0-5066-4AE3-ADDB-78CD018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D0B-238E-437C-A29F-38D01D6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D9B8-7035-434E-9B34-A30E8CD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AA1A-DDCB-498A-92DE-77611D31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9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9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272-D816-434D-9963-D8CD4728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57A-5785-4604-8AF1-7FC02F77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FAD-5F54-43C6-B441-A80946AF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7D2-C45F-4BB8-A1FE-AEDF8E34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652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6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4A-8103-45EA-87D7-950CBDF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0A5-888F-4E7D-91F4-188C1E9E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508-D6AE-404C-A865-C8FEF4E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707-88F8-4271-9DAB-12B446C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831BC-49E5-47B4-A4A2-5E716C7B5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64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351CD-163E-47FD-9D13-7324B1AB9D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linux.org/images/2/2d/ELC2010-gc-sections_Denys_Vlasenko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826920"/>
            <a:ext cx="67816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2080" y="3068280"/>
            <a:ext cx="839628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F Project and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5589720"/>
            <a:ext cx="62481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Pram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PramFS (protected RAM filesystem) to the mainline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: Support a protected region of memory where applications or kernel can store data between rebo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Marco Storne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Still working on cont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see if recent RAMoops work makes this obsol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stigate UBIFS mount time probl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 has poor mount time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s linearly with size of fl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is to measure times and identify problem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has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have report by end of sum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 report at ELC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2 is a popular flash filesystem, but it is out-of-tr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mainline the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Aleph 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has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funded by Google and C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issues with YAFFS2 supporting more than just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-of-tree version of YAFFS2 needs to be maintained for WinCE and other embedded 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data format stand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to create a single, standard file format for trac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ability for any viewer to run on the data from any tra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plan to have every tracer produce file as their native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672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, write converters for each tracers to the standard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Effi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line RT-preempt tra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utorial and training materials to help developers use RT-preempt eff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will be placed on e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K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chartd in busybo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'bootchartd' support to busybox, so that user-space bootup can be recorded and then converted to nice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Work is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awaiting tes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shiba has a test report in this Jamboree!!  (Thank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ARM Enhanc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U-Boot on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urning on caches during 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575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uld significantly improve boot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relocat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multi-stage 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Denx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till in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xecboot improv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xecboot is a UI when using Linux kernel as a bootlo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 in a number of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MIPS architecture and UBIFS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text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graphical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users and developers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Arial"/>
                <a:ea typeface="Arial"/>
              </a:rPr>
              <a:t>Conference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t 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  2010 – April 12-14, San Fran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at Jamboree after lu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FCE89-86EC-4089-8A06-DB9B4D415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roject List for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 work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312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onferences coming up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7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Con  (US) – August 10-12, Bos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Con Japan – September 27-29, Tok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C Europe 2010 – October 27-28, Cambridge,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– November 1-2, Cambridge, Massachuset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Co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formation available 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inuxCon Jap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ptember 27-29 in 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Roppongi H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is a sponsor and is helping to organize the embedded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Linux Summit planned for September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cation: Cambridge,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e: October 27-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als accepted through June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ntative joint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 Source DLNA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 &amp; Answer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Previous 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79280" y="373500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vious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7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-section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312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-se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7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 support for compiler flag -ffunction-sections to Linux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oal is to shrink the size of the Linux kernel image by up to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 patches for linker section renaming are mainlined in 2.6.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maining work is to fix missing dependencies at link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elinux.org/images/2/2d/ELC2010-gc-sections_Denys_Vlasenko.pd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New 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79280" y="373500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2010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final result of CELF Open Project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sentially ends the process that began in December 2009, to solicit project ideas from the 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40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of approved projects for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40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ing approved by CELF Architecture Group and Board of Dir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84040">
              <a:lnSpc>
                <a:spcPct val="76000"/>
              </a:lnSpc>
              <a:spcBef>
                <a:spcPts val="575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roval was done in April at CELF meetings in San Francis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ved New Project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ZO compression in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PramFS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e UBIFS mount tim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the YAFFS2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trace data forma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training for using RT-Pree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bootchart logging support to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ARM processor support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ZO compression in 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to add support for LZO compression to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is faster than zlib, but slower than LZ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is smaller than zlib, but larger than LZ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GE provided patches for LZ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hould get submitted In 2.6.36 merg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may pay Phillip a small amount for work related to pushing this upstr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0-06-03T22:59:39Z</dcterms:modified>
  <cp:revision>13</cp:revision>
  <dc:subject/>
  <dc:title>スライド 1</dc:title>
</cp:coreProperties>
</file>